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958-4B7E-4E68-9499-09A04EAE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E23-1441-4808-808B-98A82696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173-201E-4541-80FF-3263AA40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5CE-2B57-4CA8-AC7D-6402E987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1EFF-313F-4A65-8972-4CD8F7F1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861-F4B4-4E5E-886A-41B8AF30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348-5639-44AA-BD50-FA55EE7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CCB0-3DA8-473D-AF6E-DA1A4986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0D1B-156A-4094-AE7B-74DB8BA4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9662-CE5F-4B97-911F-010B35F1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435-54C9-4017-B24E-FE305DBB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A6B-DF12-4A00-9064-E4FB5FE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9AE0-66E1-4CF8-A2F8-472F5F4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1A10-4251-4D67-8C34-BEF0039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3DF-87E8-453C-BC8C-97AD54A6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7AC5-A774-4E7C-BFD2-C8C59572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8363-EDD2-4111-8508-9B8CAD70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C2B-ED96-4CA6-87BA-FBE3DFD1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6FC-AFF9-40B6-8821-0209B521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7B9-12DB-4809-A1EB-00E44D4B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7FF-6520-4506-87DD-EBC08A78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6C7-A02F-422C-A0D6-AB0F8D2B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0B6-1E96-49BE-A897-915F34C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54D-9542-4192-ABEF-3FB19D6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6A7-4B8E-414C-9360-A682631A92E9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6581-243C-4499-8869-1F4427EFC164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google.com.au/imgres?imgurl=http://www.compac-yacht.com/images/german_flag.jpg&amp;imgrefurl=http://www.compac-yacht.com/&amp;h=1075&amp;w=1400&amp;sz=125&amp;tbnid=q4jkxYpLhDAJ::&amp;tbnh=115&amp;tbnw=150&amp;prev=/images%3Fq%3Dgerman%2Bflag%2Bpictures&amp;hl=en&amp;usg=__EF0hp-yCPqG3PZyW0juExYhaJD4=&amp;sa=X&amp;oi=image_result&amp;resnum=2&amp;ct=image&amp;cd=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w2incolor.com/britain/firefly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ww2incolor.com/german/nebelwerfer.htm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ww2incolor.com/german-air-force/j88.html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ww2incolor.com/german-air-force/DB+601+A-1.html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ww2incolor.com/german-air-force/Ju+87+B+Stuka+-+Stab+I+Sturzkampfgeschwader+2+Immelman+-+1941.html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www.ww2incolor.com/britain/Briten+mit+erbeutetem+Kettenkrad.html" TargetMode="External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440400" cy="11523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Verdana"/>
              </a:rPr>
              <a:t>By Joel, Germanus, Mitch, Briana , Breeanne.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692280"/>
            <a:ext cx="31683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war ti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9280" y="5157720"/>
            <a:ext cx="309528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2209320"/>
            <a:ext cx="8147160" cy="22482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Did you know that people migrated from different countries to go to war. Like Britain, Italy, France and Germany.    Maybe the Germans started it well maybe we should find out.</a:t>
            </a: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     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4653000"/>
            <a:ext cx="2016000" cy="1208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64000" y="4724280"/>
            <a:ext cx="17290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16000" y="1495440"/>
            <a:ext cx="6335640" cy="22269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hat does war time mean? People came to Germany because of the war. People sacrificed there lives to serve there country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59280" y="4437000"/>
            <a:ext cx="1656000" cy="993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http://www.compac-yacht.com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365720"/>
            <a:ext cx="16556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47560" y="1600200"/>
            <a:ext cx="7989840" cy="12621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Verdana"/>
              </a:rPr>
              <a:t>Some people were afraid that they would die so they left there country. But others stayed and fought for there lives.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63640" y="3805200"/>
            <a:ext cx="1871640" cy="1122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208764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Verdana"/>
              </a:rPr>
              <a:t>The one who started the war was Adolph Hitler the one who ruled the German side.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087640" cy="1252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http://www.compac-yacht.com/"/>
          <p:cNvPicPr/>
          <p:nvPr/>
        </p:nvPicPr>
        <p:blipFill>
          <a:blip r:embed="rId2"/>
          <a:stretch/>
        </p:blipFill>
        <p:spPr>
          <a:xfrm>
            <a:off x="1908000" y="3645000"/>
            <a:ext cx="21592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Tiger kill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Nebelwerf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3978360"/>
            <a:ext cx="3306600" cy="2879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Junkers 8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205000"/>
            <a:ext cx="284328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Checking Daimler-Benz DB 601 A-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43280" y="2205000"/>
            <a:ext cx="3313080" cy="1787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Ju 87 B2 Stuk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437000"/>
            <a:ext cx="2987640" cy="2421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British soldiers with captured Kettenkrad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2781360"/>
            <a:ext cx="2987640" cy="165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FT 17"/>
          <p:cNvPicPr/>
          <p:nvPr/>
        </p:nvPicPr>
        <p:blipFill>
          <a:blip r:embed="rId13"/>
          <a:stretch/>
        </p:blipFill>
        <p:spPr>
          <a:xfrm>
            <a:off x="0" y="0"/>
            <a:ext cx="277164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Thunderbolt of BAF (Brazilian)"/>
          <p:cNvPicPr/>
          <p:nvPr/>
        </p:nvPicPr>
        <p:blipFill>
          <a:blip r:embed="rId14"/>
          <a:stretch/>
        </p:blipFill>
        <p:spPr>
          <a:xfrm>
            <a:off x="2843280" y="0"/>
            <a:ext cx="3313080" cy="2163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German Tank"/>
          <p:cNvPicPr/>
          <p:nvPr/>
        </p:nvPicPr>
        <p:blipFill>
          <a:blip r:embed="rId15"/>
          <a:stretch/>
        </p:blipFill>
        <p:spPr>
          <a:xfrm>
            <a:off x="6156360" y="0"/>
            <a:ext cx="2987640" cy="27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0:25:26Z</dcterms:created>
  <dc:creator>room17</dc:creator>
  <dc:description/>
  <dc:language>en-US</dc:language>
  <cp:lastModifiedBy>room17</cp:lastModifiedBy>
  <dcterms:modified xsi:type="dcterms:W3CDTF">2008-09-07T23:58:58Z</dcterms:modified>
  <cp:revision>6</cp:revision>
  <dc:subject/>
  <dc:title>Slide 1</dc:title>
</cp:coreProperties>
</file>